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A922-5A85-441D-BD30-AF2B46C5FFA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bývat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ákladní informace o okrese a knihovnách - Možnost srovnání s vlastními okre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známit s vlastním systémem tvorby a distribuce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 vidíme budoucnost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 měla auto asi před 30 lety, od té doby ta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kus o spolupráci se zřizovatelem – časté ruš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zavřena smlouva s Jihočeskou vědeckou knihovn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íme objem prostředků pro letošní 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ůžeme jasně formulovat cí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ihovny chtějí aktuální fond, pro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ktualizovat současný f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razně doplnit fond nov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dávat rovnoměrně na všechny knihov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řesně evidovat a využít výhod PC programu – ochrana fo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cisika skladby okresu – mnoho malinkých obcí s malým počtem obyv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šechny MLK nepracují – neochota zruš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fi knihovny – městské a středisko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bočky – pouze OK, dvě MK, ostatní profi na ne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 r. 1975 do 1996 – financování nákupu z OK celookres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Times New Roman"/>
              <a:buAutoNum type="arabicPlain" startAt="199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nomické balíčky – zastavení nákupu pro ostatní knihov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rovský dopad na výměnné fo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řediskový systém od r.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zůstatek systému stá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ý fond OK už od  r. 1950 (doplňovací odděle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é fondy vždy budovány ve střediskách, původně za peníze od 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yní rozdíl ve financování náku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čet knihoven v obvodech dán historickým vývoj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lední profesionalizované knihovny – nejmenší obvody – není 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vě poslední profesionalizované knihovny – nejmenší – nebuduj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užití VF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 – zvrat v budování – stop financím ze státních prostředk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ntinuita pouze u OK – 2001 – 60 tis. na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jimka OK, doplňuje i bez sdružování prostředk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ké rozdíly v počtech souborů i svazků v nich vzhledem k obrovským rozdílem ve velikosti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ěkterá střediska nechávají část souborů v knihovnách dé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ůměrná čísla shrnují velký rozdíl – od 3 do 40 souborů – dáno počtem knihoven v obv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F6E-28AE-4907-9DF2-013C3F4B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E7A-D6E8-491B-96E7-AF2B3112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237-658B-4FB8-BBD5-1F4CC667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CE0-0F9C-44F3-89BE-F31043A9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BFA1-D382-4491-B4A9-18A10285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01A0-E7AA-4EE6-8928-56C96FA9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95EE-EA30-4474-BB9C-00DE268D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1FEC-32F1-41AF-A6FD-D0E51EB0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9110-8D93-4FB5-B235-313C7A5C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F447-A3AE-41C5-945E-52BF718F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1F46-3BFA-4919-A0D8-C4870706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334-C764-4581-A1BA-C93E56F4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1D64-D32E-4E44-B2A4-F8C223DC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2F6A-16E6-4153-A641-2D94C79D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65CC-E81D-470B-8B1C-73B28252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A3BE-5990-4708-866E-30B50321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570C-7A84-40AD-82BC-AB88B6A4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62B-CA6B-4A4F-96F6-055F58F0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856-18AE-45EB-808E-49BA9661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83A-7DF9-427A-89B1-1F67462E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0EE-0003-4AC5-A811-774B8A84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841-A770-4AA1-BF86-123895EF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C1F-6700-483E-BA1C-341B04D1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D43-1671-4DAE-B9AC-C454881E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70880" indent="-470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6880" indent="-32976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84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67160" indent="-19872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2176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0B65-FF19-4D3C-B974-8289B0690EB7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29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2B0C-6A92-49C7-8F14-84E48EC56B5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35ED-6BA1-411D-A2B3-40FD7592097B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29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6285-15BC-4C7B-A653-6262DBCF40E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65040" algn="ctr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316080" algn="ctr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66760" algn="ctr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kta.cz/" TargetMode="External"/><Relationship Id="rId2" Type="http://schemas.openxmlformats.org/officeDocument/2006/relationships/hyperlink" Target="http://www.vkta.cz/" TargetMode="External"/><Relationship Id="rId3" Type="http://schemas.openxmlformats.org/officeDocument/2006/relationships/hyperlink" Target="http://www.vkta.cz/" TargetMode="External"/><Relationship Id="rId4" Type="http://schemas.openxmlformats.org/officeDocument/2006/relationships/hyperlink" Target="http://www.vkta.cz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Budování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 a distribuce výměnných fon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ů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Times New Roman"/>
              </a:rPr>
              <a:t>v okrese Tábor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no 23. – 24. dubna 20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likost výměnných fond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3680" y="1627200"/>
          <a:ext cx="82152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27200"/>
                    <a:ext cx="82152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stribuce V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ihovníci M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dopravy O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taxislužby – hradí 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Táb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ostatních mě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prava tax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užití tax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 potřeby OK – nákup, sběr ap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todická činnost – dostupnost ob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voz výměnných soubo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lé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08040" indent="-22860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držba, pohonné hmoty, plat řidič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hrazeno za dopravu  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25 tis. K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k dál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kon regionálních funkcí z jednoho mí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lavní úkoly knihov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mapovat stav jednotlivých středi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ílit výměnný fond, aktualizovat stávají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stranit disproporce v počtu dodávaných svaz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jistit přesnou evidenci soubo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ontak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kresní knihovna v Táboře -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vkta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iráskova 1775, 390 01 Tá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l.:0361/252853, e-mail: otrubova@vkta.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vktalogo%5B1%5D" descr=""/>
          <p:cNvPicPr/>
          <p:nvPr/>
        </p:nvPicPr>
        <p:blipFill>
          <a:blip r:embed="rId5"/>
          <a:stretch/>
        </p:blipFill>
        <p:spPr>
          <a:xfrm>
            <a:off x="7848720" y="5105520"/>
            <a:ext cx="1031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Okres Táb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yvatel okres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3 4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čet obyvatel Tábo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36 8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c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kniho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čet knihoven okresu 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st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20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ál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kresní knihov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bočk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Řízení knihov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řizo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resní knihovna – Okresní úřad v Tábo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knihovny – příslušné ob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ová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ovníci – okresní knihov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(fond, provoz atd.) – zřizovatel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31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ionál. knihoven včetně O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toho středisková funk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1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9200" y="1463760"/>
          <a:ext cx="84438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463760"/>
                    <a:ext cx="84438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fon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třediskových knihov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cování náku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tní prostředky ( OK 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ranty MK Č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ružování prostřed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družování prostředk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vod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c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25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 Kč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40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at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nedoplňují V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soubory v r. 200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MLK (VF)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oubor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vaz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9 1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oubory/obv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vazky/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1:24:12Z</dcterms:created>
  <dc:creator>Mgr.Alena Otrubová</dc:creator>
  <dc:description/>
  <dc:language>en-US</dc:language>
  <cp:lastModifiedBy>Mgr.Alena Otrubová</cp:lastModifiedBy>
  <dcterms:modified xsi:type="dcterms:W3CDTF">2002-04-19T08:02:28Z</dcterms:modified>
  <cp:revision>23</cp:revision>
  <dc:subject/>
  <dc:title>Tvorba a distribuce výměnných fondů v okrese Tábor </dc:title>
</cp:coreProperties>
</file>