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C61-334C-40D7-9F9F-E1120B9F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949-5F33-48FD-B96C-6E32D66C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B24-1282-4A93-8440-94A2BC64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A91-997A-48F0-8BB3-08C0549B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EFAA-85E0-4564-99A4-DA0CC7E6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30DB-AB7E-42C9-9C6A-769D369E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66A8-4534-4BC2-9F40-1F23CC36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91B3-4285-423E-8528-518E1766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50D0-282E-4B68-9D44-93C54567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A55A-E9F2-4068-978C-D5F83403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9D1C-E762-4F6C-9425-04F5E119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60E-15C8-4868-AE08-46040776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C8F5-05A1-4606-A9E1-63D7337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30C3-9165-4149-83C2-3CFF4A4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A8A9-A1E9-4EFE-BEDE-394AE0E5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F52B-832D-4DE1-B54C-89834F05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F71A-73E2-4DE7-A456-A95DF1C8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EA0-22AC-4B06-A53F-69787BB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198-F85C-4760-AC08-EC4737F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DD2-6CF7-4321-90D9-758442D3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867-B2AD-4A1B-9CF2-911392E9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7C3-E1BA-4C02-AD60-091B6A3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EE4-4086-4ADA-B77A-387608F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C9D-D204-4952-82AC-77AD619E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AB63-7B2C-4E57-B6AA-7B227BB1B03F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C3C-FF94-4A7E-95AE-87C5F351BFC4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Budování a distribuce knihovních fondů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a organizování výměnných souborů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v okrese Děčín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</a:rPr>
              <a:t>Ladislav Zoub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Brno 23. – 2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 dubna 200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Okres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33 76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cí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veřejných knihoven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Knihovny okresu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míst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profesionál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bočky profesionálních knihove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1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oblast Děčí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3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3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oblast Varnsdorf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8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1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4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 v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obcíc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s 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uzavřen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ými smlouvami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1 0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celková finanční dotace obcí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na 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 050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000,- K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nakoupený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a zpracovan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(včetně darů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 73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ganizace výměnných souborů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98400" y="2209680"/>
          <a:ext cx="7772400" cy="3505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očet souborů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vazky v ni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5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 0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2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 07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3 0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dnota knih ve VF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47920" y="1905120"/>
          <a:ext cx="6247800" cy="4419000"/>
        </p:xfrm>
        <a:graphic>
          <a:graphicData uri="http://schemas.openxmlformats.org/drawingml/2006/table">
            <a:tbl>
              <a:tblPr/>
              <a:tblGrid>
                <a:gridCol w="3123720"/>
                <a:gridCol w="312408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hodnota v Kč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 4141 74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44 562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 259 30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7:57:08Z</dcterms:created>
  <dc:creator>Mgr.Alena Otrubová</dc:creator>
  <dc:description/>
  <dc:language>en-US</dc:language>
  <cp:lastModifiedBy>Mgr.Alena Otrubová</cp:lastModifiedBy>
  <dcterms:modified xsi:type="dcterms:W3CDTF">2002-04-19T08:01:35Z</dcterms:modified>
  <cp:revision>4</cp:revision>
  <dc:subject/>
  <dc:title>Budování a distribuce knihovních fondů a organizování výměnných souborů v okrese Děčín </dc:title>
</cp:coreProperties>
</file>