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2BD5-A65A-4160-9163-108407F6E1C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bývat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kladní informace o okrese a knihovnách - Možnost srovnání s vlastními okre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známit s vlastním systémem tvorby a distribuce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vidíme budoucnost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 měla auto asi před 30 lety, od té doby ta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kus o spolupráci se zřizovatelem – časté ruš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zavřena smlouva s Jihočeskou vědeckou knihov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íme objem prostředků pro letošní 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ůžeme jasně formulovat cí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ihovny chtějí aktuální fond, pr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alizovat současný 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razně doplnit fond nov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dávat rovnoměrně na všechny knihov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řesně evidovat a využít výhod PC programu – ochrana fo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cisika skladby okresu – mnoho malinkých obcí s malým počtem obyv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šechny MLK nepracují – neochota zruš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fi knihovny – městské a středisko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bočky – pouze OK, dvě MK, ostatní profi na ne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r. 1975 do 1996 – financování nákupu z OK celookres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Times New Roman"/>
              <a:buAutoNum type="arabicPlain" startAt="199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nomické balíčky – zastavení nákupu pro ostatní knih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ovský dopad na výměnné fo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ediskový systém od r.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zůstatek systému stá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ý fond OK už od  r. 1950 (doplňovací odděle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é fondy vždy budovány ve střediskách, původně za peníze od 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yní rozdíl ve financování náku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čet knihoven v obvodech dán historickým vývoj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lední profesionalizované knihovny – nejmenší obvody – není 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ě poslední profesionalizované knihovny – nejmenší – nebuduj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žití VF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 – zvrat v budování – stop financím ze státních prostředk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tinuita pouze u OK – 2001 – 60 tis. na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jimka OK, doplňuje i bez sdružování prostředk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ké rozdíly v počtech souborů i svazků v nich vzhledem k obrovským rozdílem ve velikosti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ěkterá střediska nechávají část souborů v knihovnách dé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ůměrná čísla shrnují velký rozdíl – od 3 do 40 souborů – dáno počtem knihoven v obv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943-F966-41C6-BCC4-63C81A99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997-1CFC-468F-BFB5-495B370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03F-8318-414E-89AF-2A5996E5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F83-9162-480A-B57E-37BE7BAA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B3AF-16AD-4BC1-AE90-E93DF9E2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BC7B-041E-4C85-957A-383CB728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12CD-D0A6-4166-8212-5F13BF92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7FAA-6856-4E25-96CD-D9970B62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EA9A-76AE-471A-8F52-CD56830C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1F94-B314-4D69-A2E8-617AEF90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1497-F2A4-4E5C-9343-8DEF4F04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D92-1F49-4BD1-B2AF-06F10336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08D5-6682-477D-A881-51B089EA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C157-4AC9-4927-AF69-C6E47BC3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FE94-9552-460B-9951-7F6A5ECE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1F3C-4971-4631-A030-72FD3F74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A670-084C-49EC-B0E8-8F9F5376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0EB-C3ED-4989-B0B8-666A9945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90B-48A1-47AA-A260-DED22EA3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C2C-224D-4AFC-9C8A-A8143A1C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DBB-C455-4956-AFD4-0D351929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44A7-027F-400D-8E7F-C640DD31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A95-487D-467C-8F4B-98C15AD3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069-A57F-4434-A37C-CBA247FE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70880" indent="-470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32976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84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67160" indent="-19872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2176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70E-A961-441B-A8EF-D9593BAF9236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AE46-5D54-40BD-90B2-1B62334B2DF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BB0-D4A2-4631-9B03-7951AB611675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E53B-2982-4751-AACA-11600583C27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65040" algn="ctr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316080" algn="ctr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66760" algn="ctr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kta.cz/" TargetMode="External"/><Relationship Id="rId2" Type="http://schemas.openxmlformats.org/officeDocument/2006/relationships/hyperlink" Target="http://www.vkta.cz/" TargetMode="External"/><Relationship Id="rId3" Type="http://schemas.openxmlformats.org/officeDocument/2006/relationships/hyperlink" Target="http://www.vkta.cz/" TargetMode="External"/><Relationship Id="rId4" Type="http://schemas.openxmlformats.org/officeDocument/2006/relationships/hyperlink" Target="http://www.vkta.cz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Budování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 a distribuce výměnných fon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ů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Times New Roman"/>
              </a:rPr>
              <a:t>v okrese Tábor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no 23. – 24. dubna 20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likost výměnných fond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3680" y="1627200"/>
          <a:ext cx="8215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27200"/>
                    <a:ext cx="82152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stribuce V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ihovníci M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dopravy O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taxislužby – hradí 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Táb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ostatních mě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prava tax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užití tax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 potřeby OK – nákup, sběr ap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todická činnost – dostupnost ob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voz výměnných soubo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lé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8040" indent="-22860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držba, pohonné hmoty, plat řidič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hrazeno za dopravu  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25 tis. K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k dál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kon regionálních funkcí z jednoho mí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lavní úkoly knihov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mapovat stav jednotlivých středi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ílit výměnný fond, aktualizovat stávají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stranit disproporce v počtu dodávaných svaz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jistit přesnou evidenci soubo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kresní knihovna v Táboře -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vkta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iráskova 1775, 390 01 Tá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l.:0361/252853, e-mail: otrubova@vkta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vktalogo%5B1%5D" descr=""/>
          <p:cNvPicPr/>
          <p:nvPr/>
        </p:nvPicPr>
        <p:blipFill>
          <a:blip r:embed="rId5"/>
          <a:stretch/>
        </p:blipFill>
        <p:spPr>
          <a:xfrm>
            <a:off x="7848720" y="5105520"/>
            <a:ext cx="1031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Okres Táb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yvatel okre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3 4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čet obyvatel Tábo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36 8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c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kniho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čet knihoven okresu 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2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ál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kresní knihov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bočk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Řízení knihov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řizo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resní knihovna – Okresní úřad v Tábo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knihovny – příslušné ob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ová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níci – okresní knihov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(fond, provoz atd.) – zřizovate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ionál. knihoven včetně O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toho středisková funk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1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9200" y="1463760"/>
          <a:ext cx="84438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463760"/>
                    <a:ext cx="84438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fon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třediskových knihov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cování náku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ní prostředky ( OK 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ranty MK Č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ružování prostřed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družování prostřed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v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c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25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 Kč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0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at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edoplňují V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soubory v r.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MLK (VF)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oubo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vaz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9 1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oubory/obv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vazky/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1:24:12Z</dcterms:created>
  <dc:creator>Mgr.Alena Otrubová</dc:creator>
  <dc:description/>
  <dc:language>en-US</dc:language>
  <cp:lastModifiedBy>Mgr.Alena Otrubová</cp:lastModifiedBy>
  <dcterms:modified xsi:type="dcterms:W3CDTF">2002-04-19T08:02:28Z</dcterms:modified>
  <cp:revision>23</cp:revision>
  <dc:subject/>
  <dc:title>Tvorba a distribuce výměnných fondů v okrese Tábor </dc:title>
</cp:coreProperties>
</file>