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468-6F46-4177-A2BC-4A3DC3BA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ECB-24CD-45C6-857C-4F78B162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FD4-7080-455C-987C-D77B9721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7DD-A370-4B39-991E-5DB11D83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836D-4D7D-4914-B8D4-23A133EB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9721-E8CF-4523-96D7-D7AFF938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F02E-E12E-407D-BBDC-746C622D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8428-7E63-4E2C-BE8B-FD8F6486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1EF9-3BF3-42F0-B7DB-85E39CA4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BE69-C8B4-452E-A7D8-81FDD256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7049-B3D8-4B2F-B12D-2046659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63A-0E5A-4616-A36B-B6E8B126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8822-028E-4F91-A32A-7E98EC8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9FE5-B7E5-4C9D-A4FF-F3C61DB5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76C2-55CE-49AF-9933-307A619A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27E2-897A-4550-8E4C-DC638AA2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D05-754B-409E-A8E1-D96E1241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48C-3C8C-4316-A66F-B2BFF0FA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E5C-3283-40BB-84F0-877E7787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966-62E1-42EC-9399-23BEEFED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DAF-CA0C-477A-8C48-D5CEBC55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44F-6E60-4252-96AA-30EE08D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68F-5553-4D70-B419-69C01CF4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2F5-B6F8-412D-9AAD-8D1BB7A0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6736-623F-475B-A6C6-44111F2A5836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694E-6A41-4BFD-A5B3-572691BF50C8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Budování a distribuce knihovních fondů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a organizování výměnných souborů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v okrese Děčín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</a:rPr>
              <a:t>Ladislav Zoub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Brno 23. – 2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 dubna 200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Okres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33 76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cí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veřejných knihoven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Knihovny okresu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míst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profesionál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bočky profesionálních knihove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1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oblast Děčí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3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3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oblast Varnsdorf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8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1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4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 v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obcíc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s 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uzavřen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ými smlouvami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1 0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celková finanční dotace obcí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na 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 050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000,- K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nakoupený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a zpracovan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(včetně darů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 73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ganizace výměnných souborů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98400" y="2209680"/>
          <a:ext cx="7772400" cy="3505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očet souborů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vazky v ni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5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 0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2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 07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3 0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dnota knih ve VF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47920" y="1905120"/>
          <a:ext cx="6247800" cy="4419000"/>
        </p:xfrm>
        <a:graphic>
          <a:graphicData uri="http://schemas.openxmlformats.org/drawingml/2006/table">
            <a:tbl>
              <a:tblPr/>
              <a:tblGrid>
                <a:gridCol w="3123720"/>
                <a:gridCol w="312408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hodnota v Kč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 4141 74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44 562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 259 30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7:57:08Z</dcterms:created>
  <dc:creator>Mgr.Alena Otrubová</dc:creator>
  <dc:description/>
  <dc:language>en-US</dc:language>
  <cp:lastModifiedBy>Mgr.Alena Otrubová</cp:lastModifiedBy>
  <dcterms:modified xsi:type="dcterms:W3CDTF">2002-04-19T08:01:35Z</dcterms:modified>
  <cp:revision>4</cp:revision>
  <dc:subject/>
  <dc:title>Budování a distribuce knihovních fondů a organizování výměnných souborů v okrese Děčín </dc:title>
</cp:coreProperties>
</file>